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1EE07-8331-4B33-BE31-18EA45EEC5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C0F6D-948B-4ABF-A33B-5CAB0A8F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EB4D1-D752-4A5F-AF88-7B41AA5E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9A10F-D62A-44C9-A8BE-100868147A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2F698-C66E-49DF-9B06-2FD4EBEE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160D7-0D46-4ECB-80B6-775421D7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0B02A-055C-4D91-95D9-C7248F14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F8820-23F2-4D00-B4C5-040B29129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9E5F7-3C71-4589-9F38-9045BE6FC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4D4C4-213D-4ADE-9E7F-86E8A1A3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3D4A7-CDA2-4B51-8346-0DF4BCB4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B3EE7-B721-4A2C-A2AA-1720402F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199D-44F0-41BC-9E57-F94965942B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684360" y="27079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宋体"/>
              </a:rPr>
              <a:t>第十四节 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便  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000" y="2491920"/>
            <a:ext cx="47624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抑郁症和焦虑障碍的患者也常常伴有胃肠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8" name="Picture 3" descr="20072813431483"/>
          <p:cNvPicPr/>
          <p:nvPr/>
        </p:nvPicPr>
        <p:blipFill>
          <a:blip r:embed="rId1"/>
          <a:stretch/>
        </p:blipFill>
        <p:spPr>
          <a:xfrm>
            <a:off x="5580000" y="1773360"/>
            <a:ext cx="321624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药物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长期服泻药、灌肠等因素也可引起肠壁神经麻痹，导致便秘的发生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2" name="Picture 4" descr="yfzx_dwxm_5"/>
          <p:cNvPicPr/>
          <p:nvPr/>
        </p:nvPicPr>
        <p:blipFill>
          <a:blip r:embed="rId1"/>
          <a:stretch/>
        </p:blipFill>
        <p:spPr>
          <a:xfrm>
            <a:off x="3924360" y="3716280"/>
            <a:ext cx="37846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因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器质性便秘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梗阻、肠粘连、肠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腔或盆腔内肿瘤压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直肠或肛门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数减少，粪便量少，干结，排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胀、腹痛、下坠感、排便不尽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肛门疼痛、肛裂、痔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5438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便秘的危害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8640" y="1052640"/>
            <a:ext cx="843624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黑体"/>
              </a:rPr>
              <a:t>皮肤粘膜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皮肤色素沉着，面色灰暗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600" spc="-1" strike="noStrike">
                <a:solidFill>
                  <a:srgbClr val="ff0000"/>
                </a:solidFill>
                <a:latin typeface="楷体_GB2312"/>
                <a:ea typeface="黑体"/>
              </a:rPr>
              <a:t>消化道系统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可导致患者出现食欲不振、腹部胀满、嗳气、口苦、肛门排气多等表现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用力排便会导致肛裂、痔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肠壁长期受粪便刺激，增加了其癌变的发生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黑体"/>
              </a:rPr>
              <a:t>心血管系统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诱发下肢静脉曲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心绞痛，心肌梗死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脑出血，颅内压增高，甚至脑疝等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黑体"/>
              </a:rPr>
              <a:t>神经系统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大量毒素吸收入血可导致患者出现记忆力下降，注意力不集中，思维迟缓等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15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问诊要点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疾病史、药物史、饮食、心理、环境、活动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排便频率、性状、量、费力程度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对功能性健康型态的影响：有无肛周疼痛、知识、心理应对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诊断、治疗及护理经过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护理诊断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组织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知识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便秘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各类便秘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便秘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用自己的语言解释便秘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腹泻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2680"/>
            <a:ext cx="85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便秘是指排便频率减少，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周少于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次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粪便干结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并常有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排便困难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的感觉。</a:t>
            </a:r>
            <a:endParaRPr b="1" lang="en-US" sz="3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定  义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Picture 4" descr="20060819230220954"/>
          <p:cNvPicPr/>
          <p:nvPr/>
        </p:nvPicPr>
        <p:blipFill>
          <a:blip r:embed="rId1"/>
          <a:stretch/>
        </p:blipFill>
        <p:spPr>
          <a:xfrm>
            <a:off x="6013440" y="3600360"/>
            <a:ext cx="26589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Picture 3" descr="01300000201178121767511097223"/>
          <p:cNvPicPr/>
          <p:nvPr/>
        </p:nvPicPr>
        <p:blipFill>
          <a:blip r:embed="rId1"/>
          <a:stretch/>
        </p:blipFill>
        <p:spPr>
          <a:xfrm>
            <a:off x="5869080" y="1773360"/>
            <a:ext cx="3003480" cy="424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252360" y="1486080"/>
            <a:ext cx="6048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条件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内容物足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肠道功能（肌肉张力和蠕动功能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排便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排便肌肉功能正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因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功能性便秘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4" descr="xinsimple_47203040910096252073414"/>
          <p:cNvPicPr/>
          <p:nvPr/>
        </p:nvPicPr>
        <p:blipFill>
          <a:blip r:embed="rId1"/>
          <a:stretch/>
        </p:blipFill>
        <p:spPr>
          <a:xfrm>
            <a:off x="2627280" y="2205000"/>
            <a:ext cx="513864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0" lang="zh-CN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饮食因素</a:t>
            </a:r>
            <a:br>
              <a:rPr sz="2500"/>
            </a:br>
            <a:r>
              <a:rPr b="0" lang="zh-CN" sz="2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2" name="Picture 3" descr="14915914"/>
          <p:cNvPicPr/>
          <p:nvPr/>
        </p:nvPicPr>
        <p:blipFill>
          <a:blip r:embed="rId1"/>
          <a:stretch/>
        </p:blipFill>
        <p:spPr>
          <a:xfrm>
            <a:off x="5292720" y="3068640"/>
            <a:ext cx="3481560" cy="33321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468360" y="1343160"/>
            <a:ext cx="8064360" cy="44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摄入的食物过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饮食过于精细少渣，长期缺乏食物纤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液体摄入量过少   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0" lang="zh-CN" sz="33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习惯因素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339920"/>
            <a:ext cx="8075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部分患者因工作因素，不能在有便意时及时去排便，久而久之导致排便不畅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部分患者因在排便时同时做一些其他的事，比如看报、看小说、听音乐之类的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无意识地抑制排便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 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造成排便反射感觉降低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姿势、便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7" name="Picture 4" descr="W020070318390253854674"/>
          <p:cNvPicPr/>
          <p:nvPr/>
        </p:nvPicPr>
        <p:blipFill>
          <a:blip r:embed="rId1"/>
          <a:stretch/>
        </p:blipFill>
        <p:spPr>
          <a:xfrm>
            <a:off x="6084720" y="4078440"/>
            <a:ext cx="281952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54380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活动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889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0" lang="zh-CN" sz="3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活动量过少，使得肠蠕动缓慢，肠内容物通过时间延长，肠内水分被过度吸收，粪便干结，通过更加受阻，从而导致恶性循环。</a:t>
            </a:r>
            <a:r>
              <a:rPr b="1" lang="zh-CN" sz="19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Picture 4" descr="4498582_1"/>
          <p:cNvPicPr/>
          <p:nvPr/>
        </p:nvPicPr>
        <p:blipFill>
          <a:blip r:embed="rId1"/>
          <a:stretch/>
        </p:blipFill>
        <p:spPr>
          <a:xfrm>
            <a:off x="3419640" y="3357720"/>
            <a:ext cx="50400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社会心理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81080" y="1628280"/>
            <a:ext cx="87120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精神上受到强烈刺激、惊恐、情绪紧张或注意力高度集中某一工作等会使便意消失，形成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5" name="Picture 4" descr="20060327135803688"/>
          <p:cNvPicPr/>
          <p:nvPr/>
        </p:nvPicPr>
        <p:blipFill>
          <a:blip r:embed="rId1"/>
          <a:stretch/>
        </p:blipFill>
        <p:spPr>
          <a:xfrm>
            <a:off x="4067280" y="3357720"/>
            <a:ext cx="34574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3:20:41Z</dcterms:created>
  <dc:creator>user</dc:creator>
  <dc:description/>
  <cp:keywords/>
  <dc:language>en-US</dc:language>
  <cp:lastModifiedBy>赵欣</cp:lastModifiedBy>
  <cp:lastPrinted>1899-12-30T00:00:00Z</cp:lastPrinted>
  <dcterms:modified xsi:type="dcterms:W3CDTF">2015-12-16T08:04:34Z</dcterms:modified>
  <cp:revision>12</cp:revision>
  <dc:subject/>
  <dc:title>便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